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32.xml" ContentType="application/vnd.openxmlformats-officedocument.presentationml.notesSlide+xml"/>
  <Override PartName="/ppt/notesSlides/notesSlide26.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EA330-061D-4758-BA9B-346239152E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from ACCP guidelines which was a 1A recommend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ying methods used to detect DVT and PEs in their studie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studies did not differentiate between proximal and distal DV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lcers can develop within HOURS of the onset of the ins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fold increase in mortality if you bleed (vs. if you do not bleed)</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chanical ventilation for &gt; 48 hr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dose is &gt;250mg HC per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S is Injury Severity Scor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57 patients in ICU, 80% on SUP upon transfer (60% inappropriate), 24% D/C’d to home on inappropriate S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been associated with interstitial nephritis, confusion, and thrompocytopenia</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orse July 2007</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iso-osmolal” agent is DISIPAQUE</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DIAL patients were cardiac cath pts…mod to high risk.  NNT is 13</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276455-2E1D-45E4-AB4B-97AA74339D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950E12-7F03-4649-8BA7-94EE117E57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171294-52AA-418E-B828-BE4BF74E7E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C2EDA9-05C7-40DC-BB31-6A7E5DB154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650595-2243-4E64-BCD0-FB2B353567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5A2B25-B55B-4313-B068-1D5DE2C617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14AABB-5E31-4088-9683-C84491EBBD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0FADCE-EBCA-4740-B0F7-53CA67FFD4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F23430-B236-4B4C-92D1-ACDA83BE66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15D02-D193-49D7-896C-3EA79CAF09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59DAE-85E8-4CCB-B303-6716B0656F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E1F76-31F8-4FA0-B58C-98F6309B6D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3A0FC-98B6-498B-BE10-27A8B776C8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phylaxis in the hospital</a:t>
            </a:r>
            <a:br>
              <a:rPr sz="4400"/>
            </a:br>
            <a:r>
              <a:rPr b="0" lang="en-US" sz="4400" spc="-1" strike="noStrike">
                <a:solidFill>
                  <a:srgbClr val="000000"/>
                </a:solidFill>
                <a:latin typeface="Times New Roman"/>
              </a:rPr>
              <a:t> </a:t>
            </a:r>
            <a:r>
              <a:rPr b="0" i="1" lang="en-US" sz="4400" spc="-1" strike="noStrike">
                <a:solidFill>
                  <a:srgbClr val="000000"/>
                </a:solidFill>
                <a:latin typeface="Times New Roman"/>
              </a:rPr>
              <a:t>a 2009 update</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ott Akin M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in’s 2007 Meta-analysis</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Both LMWH &amp; UFH reduce PE risk about the same</a:t>
            </a:r>
            <a:endParaRPr b="0" lang="en-US" sz="3200" spc="-1" strike="noStrike">
              <a:solidFill>
                <a:srgbClr val="000000"/>
              </a:solidFill>
              <a:latin typeface="Times New Roman"/>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Both LMWH &amp; UFH increase the risk of major bleeding about the same</a:t>
            </a:r>
            <a:endParaRPr b="0" lang="en-US" sz="3200" spc="-1" strike="noStrike">
              <a:solidFill>
                <a:srgbClr val="000000"/>
              </a:solidFill>
              <a:latin typeface="Times New Roman"/>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o difference in thrombocytopenia</a:t>
            </a:r>
            <a:endParaRPr b="0" lang="en-US" sz="3200" spc="-1" strike="noStrike">
              <a:solidFill>
                <a:srgbClr val="000000"/>
              </a:solidFill>
              <a:latin typeface="Times New Roman"/>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jection site hematoma less common with LMWH</a:t>
            </a:r>
            <a:endParaRPr b="0" lang="en-US" sz="3200" spc="-1" strike="noStrike">
              <a:solidFill>
                <a:srgbClr val="000000"/>
              </a:solidFill>
              <a:latin typeface="Times New Roman"/>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in’s 2007 Meta-analysis</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st of LMWH more, but maybe more cost effective in the end because decreases number of DVT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FH dose of TID was more effective than the UFH dose of 5000 BID in reducing DVT …without any increase risk of bleeding.</a:t>
            </a:r>
            <a:endParaRPr b="0" lang="en-US" sz="32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other Meta-analysis</a:t>
            </a:r>
            <a:br>
              <a:rPr sz="4400"/>
            </a:br>
            <a:r>
              <a:rPr b="0" i="1" lang="en-US" sz="3600" spc="-1" strike="noStrike">
                <a:solidFill>
                  <a:srgbClr val="000000"/>
                </a:solidFill>
                <a:latin typeface="Arial"/>
              </a:rPr>
              <a:t>Chest 2007; 131;507-516</a:t>
            </a:r>
            <a:br>
              <a:rPr sz="3600"/>
            </a:br>
            <a:endParaRPr b="0" lang="en-US" sz="36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000 patients, 12 studies</a:t>
            </a:r>
            <a:endParaRPr b="0" lang="en-US" sz="2800" spc="-1" strike="noStrike">
              <a:solidFill>
                <a:srgbClr val="000000"/>
              </a:solidFill>
              <a:latin typeface="Times New Roman"/>
            </a:endParaRPr>
          </a:p>
          <a:p>
            <a:pPr marL="318960" indent="-318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D vs. TID unfractionated heparin</a:t>
            </a:r>
            <a:endParaRPr b="0" lang="en-US" sz="2800" spc="-1" strike="noStrike">
              <a:solidFill>
                <a:srgbClr val="000000"/>
              </a:solidFill>
              <a:latin typeface="Times New Roman"/>
            </a:endParaRPr>
          </a:p>
          <a:p>
            <a:pPr marL="318960" indent="-318960">
              <a:lnSpc>
                <a:spcPct val="100000"/>
              </a:lnSpc>
              <a:buClr>
                <a:srgbClr val="000000"/>
              </a:buClr>
              <a:buFont typeface="Hel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D heparin showed a </a:t>
            </a:r>
            <a:r>
              <a:rPr b="0" i="1" lang="en-US" sz="2800" spc="-1" strike="noStrike" u="sng">
                <a:solidFill>
                  <a:srgbClr val="000000"/>
                </a:solidFill>
                <a:uFillTx/>
                <a:latin typeface="Arial"/>
              </a:rPr>
              <a:t>trend</a:t>
            </a:r>
            <a:r>
              <a:rPr b="0" lang="en-US" sz="2800" spc="-1" strike="noStrike" u="sng">
                <a:solidFill>
                  <a:srgbClr val="000000"/>
                </a:solidFill>
                <a:uFillTx/>
                <a:latin typeface="Arial"/>
              </a:rPr>
              <a:t> </a:t>
            </a:r>
            <a:r>
              <a:rPr b="0" i="1" lang="en-US" sz="2800" spc="-1" strike="noStrike" u="sng">
                <a:solidFill>
                  <a:srgbClr val="000000"/>
                </a:solidFill>
                <a:uFillTx/>
                <a:latin typeface="Arial"/>
              </a:rPr>
              <a:t>toward</a:t>
            </a:r>
            <a:r>
              <a:rPr b="0" lang="en-US" sz="2800" spc="-1" strike="noStrike" u="sng">
                <a:solidFill>
                  <a:srgbClr val="000000"/>
                </a:solidFill>
                <a:uFillTx/>
                <a:latin typeface="Arial"/>
              </a:rPr>
              <a:t> a decrease</a:t>
            </a:r>
            <a:r>
              <a:rPr b="0" lang="en-US" sz="2800" spc="-1" strike="noStrike">
                <a:solidFill>
                  <a:srgbClr val="000000"/>
                </a:solidFill>
                <a:latin typeface="Arial"/>
              </a:rPr>
              <a:t> in pulmonary embolism</a:t>
            </a:r>
            <a:endParaRPr b="0" lang="en-US" sz="2800" spc="-1" strike="noStrike">
              <a:solidFill>
                <a:srgbClr val="000000"/>
              </a:solidFill>
              <a:latin typeface="Times New Roman"/>
            </a:endParaRPr>
          </a:p>
          <a:p>
            <a:pPr marL="318960" indent="-318960">
              <a:lnSpc>
                <a:spcPct val="100000"/>
              </a:lnSpc>
              <a:buClr>
                <a:srgbClr val="000000"/>
              </a:buClr>
              <a:buFont typeface="Hel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ificant </a:t>
            </a:r>
            <a:r>
              <a:rPr b="0" lang="en-US" sz="2800" spc="-1" strike="noStrike" u="sng">
                <a:solidFill>
                  <a:srgbClr val="000000"/>
                </a:solidFill>
                <a:uFillTx/>
                <a:latin typeface="Arial"/>
              </a:rPr>
              <a:t>decrease</a:t>
            </a:r>
            <a:r>
              <a:rPr b="0" lang="en-US" sz="2800" spc="-1" strike="noStrike">
                <a:solidFill>
                  <a:srgbClr val="000000"/>
                </a:solidFill>
                <a:latin typeface="Arial"/>
              </a:rPr>
              <a:t> in the incidence of the combined outcome of proximal DVT or PE</a:t>
            </a:r>
            <a:endParaRPr b="0" lang="en-US" sz="2800" spc="-1" strike="noStrike">
              <a:solidFill>
                <a:srgbClr val="000000"/>
              </a:solidFill>
              <a:latin typeface="Times New Roman"/>
            </a:endParaRPr>
          </a:p>
          <a:p>
            <a:pPr marL="318960" indent="-318960">
              <a:lnSpc>
                <a:spcPct val="100000"/>
              </a:lnSpc>
              <a:buClr>
                <a:srgbClr val="000000"/>
              </a:buClr>
              <a:buFont typeface="Hel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significant </a:t>
            </a:r>
            <a:r>
              <a:rPr b="0" lang="en-US" sz="2800" spc="-1" strike="noStrike" u="sng">
                <a:solidFill>
                  <a:srgbClr val="000000"/>
                </a:solidFill>
                <a:uFillTx/>
                <a:latin typeface="Arial"/>
              </a:rPr>
              <a:t>increase</a:t>
            </a:r>
            <a:r>
              <a:rPr b="0" lang="en-US" sz="2800" spc="-1" strike="noStrike">
                <a:solidFill>
                  <a:srgbClr val="000000"/>
                </a:solidFill>
                <a:latin typeface="Arial"/>
              </a:rPr>
              <a:t> in major bleeding events with TID dosing (especially in elderly and thin)</a:t>
            </a:r>
            <a:endParaRPr b="0" lang="en-US" sz="2800" spc="-1" strike="noStrike">
              <a:solidFill>
                <a:srgbClr val="000000"/>
              </a:solidFill>
              <a:latin typeface="Times New Roman"/>
            </a:endParaRPr>
          </a:p>
          <a:p>
            <a:pPr lvl="1" marL="690840" indent="-2656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es, that conflicts with the previous meta-analysis</a:t>
            </a:r>
            <a:endParaRPr b="0" lang="en-US" sz="2400" spc="-1" strike="noStrike">
              <a:solidFill>
                <a:srgbClr val="000000"/>
              </a:solidFill>
              <a:latin typeface="Times New Roman"/>
            </a:endParaRPr>
          </a:p>
          <a:p>
            <a:pPr lvl="1" marL="6908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008 </a:t>
            </a:r>
            <a:r>
              <a:rPr b="0" i="1" lang="en-US" sz="4400" spc="-1" strike="noStrike">
                <a:solidFill>
                  <a:srgbClr val="000000"/>
                </a:solidFill>
                <a:latin typeface="Times New Roman"/>
              </a:rPr>
              <a:t>Chest</a:t>
            </a:r>
            <a:r>
              <a:rPr b="0" lang="en-US" sz="4400" spc="-1" strike="noStrike">
                <a:solidFill>
                  <a:srgbClr val="000000"/>
                </a:solidFill>
                <a:latin typeface="Times New Roman"/>
              </a:rPr>
              <a:t> Guidleines</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1199"/>
              </a:spcBef>
              <a:buClr>
                <a:srgbClr val="000000"/>
              </a:buClr>
              <a:buFont typeface="Tms Rm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There is no compelling evidence that unfractionated heparin (UFH) should be administered three times daily in preference to twice daily in medical patients, although these two regimens have never been directly compared.”</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008 Chest Guidelines</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1199"/>
              </a:spcBef>
              <a:buClr>
                <a:srgbClr val="000000"/>
              </a:buClr>
              <a:buFont typeface="Tms Rm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In a metaanalysis</a:t>
            </a:r>
            <a:r>
              <a:rPr b="0" lang="en-US" sz="3200" spc="-1" strike="noStrike">
                <a:solidFill>
                  <a:srgbClr val="000000"/>
                </a:solidFill>
                <a:latin typeface="Times New Roman"/>
              </a:rPr>
              <a:t> </a:t>
            </a:r>
            <a:r>
              <a:rPr b="0" lang="en-US" sz="3200" spc="-1" strike="noStrike">
                <a:solidFill>
                  <a:srgbClr val="000000"/>
                </a:solidFill>
                <a:latin typeface="Times New Roman"/>
              </a:rPr>
              <a:t>that included almost 8,000 patients, three-times-daily UFH was associated with significantly more major bleeding events, while there was a nonsignificant trend toward more thromboembolic events with twice-daily UFH.”</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ID Vs. BID…will We Ever Really Know?</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buClr>
                <a:srgbClr val="000000"/>
              </a:buClr>
              <a:buFont typeface="Hel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robably not…</a:t>
            </a:r>
            <a:endParaRPr b="0" lang="en-US" sz="3200" spc="-1" strike="noStrike">
              <a:solidFill>
                <a:srgbClr val="000000"/>
              </a:solidFill>
              <a:latin typeface="Times New Roman"/>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buClr>
                <a:srgbClr val="000000"/>
              </a:buClr>
              <a:buFont typeface="Hel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ndomized controlled trial would take a study of 150,000 to show a difference...And given heparin is generic there is no financial incentive to do it.</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Are We Doing at CCRMC?</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st do no harm:  “default” order for DVT prophylaxis will be heparin 5000 units SQ BID</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patient has multiple DVT risk factors consider heparin 5000 units SQ TID or Enoxaparin 40 units daily….But only </a:t>
            </a:r>
            <a:r>
              <a:rPr b="0" lang="en-US" sz="2800" spc="-1" strike="noStrike">
                <a:solidFill>
                  <a:srgbClr val="000000"/>
                </a:solidFill>
                <a:latin typeface="Arial"/>
              </a:rPr>
              <a:t>IF patient is low bleeding risk:</a:t>
            </a:r>
            <a:endParaRPr b="0" lang="en-US" sz="2800" spc="-1" strike="noStrike">
              <a:solidFill>
                <a:srgbClr val="000000"/>
              </a:solidFill>
              <a:latin typeface="Times New Roman"/>
            </a:endParaRPr>
          </a:p>
          <a:p>
            <a:pPr lvl="1" marL="72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Not “old” (&gt;65-70??)</a:t>
            </a:r>
            <a:endParaRPr b="0" lang="en-US" sz="2400" spc="-1" strike="noStrike">
              <a:solidFill>
                <a:srgbClr val="000000"/>
              </a:solidFill>
              <a:latin typeface="Times New Roman"/>
            </a:endParaRPr>
          </a:p>
          <a:p>
            <a:pPr lvl="1" marL="72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Not “low body weight” (&lt; 50kg…??)</a:t>
            </a:r>
            <a:endParaRPr b="0" lang="en-US" sz="2400" spc="-1" strike="noStrike">
              <a:solidFill>
                <a:srgbClr val="000000"/>
              </a:solidFill>
              <a:latin typeface="Times New Roman"/>
            </a:endParaRPr>
          </a:p>
          <a:p>
            <a:pPr lvl="1" marL="72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Stable Hemoglobin</a:t>
            </a:r>
            <a:endParaRPr b="0" lang="en-US" sz="2400" spc="-1" strike="noStrike">
              <a:solidFill>
                <a:srgbClr val="000000"/>
              </a:solidFill>
              <a:latin typeface="Times New Roman"/>
            </a:endParaRPr>
          </a:p>
          <a:p>
            <a:pPr lvl="1" marL="72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No history of bleeds</a:t>
            </a:r>
            <a:endParaRPr b="0" lang="en-US" sz="2400" spc="-1" strike="noStrike">
              <a:solidFill>
                <a:srgbClr val="000000"/>
              </a:solidFill>
              <a:latin typeface="Times New Roman"/>
            </a:endParaRPr>
          </a:p>
          <a:p>
            <a:pPr marL="3326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TE prophylaxis summary</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ess every patient for VTE prophylaxis based on their mobility status and risk facto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courage early ambul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MWH may be better than UFH…bu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ly stick with BID UFH…unless multiple DVT risk factors and low bleeding ris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y tuned for guidelines on extended prophylaxis in the high risk patie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xt topic:  Stress ulcer prophylaxis</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ckgroun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ess ulcers= stomach (but sometimes duodenal or distal esophagus) erosions that can bleed (usually “ooze,” but if deeper can cause massive hemorrhag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ysiology:  Disruption of balance between acid production (increases) and glycoprotein mucosal protection barrier (breaks down from refluxed bile salts/build up of uremic toxin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shock/trauma: Perfusion impaired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ischemia</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mucosal barrier breakdown</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ess Ulcer Risk Factors</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en-US" sz="4400" spc="-1" strike="noStrike">
                <a:solidFill>
                  <a:srgbClr val="000000"/>
                </a:solidFill>
                <a:latin typeface="Verdana"/>
              </a:rPr>
              <a:t>Mechanical ventilation </a:t>
            </a:r>
            <a:endParaRPr b="0" lang="en-US" sz="4400" spc="-1" strike="noStrike">
              <a:solidFill>
                <a:srgbClr val="000000"/>
              </a:solidFill>
              <a:latin typeface="Times New Roman"/>
            </a:endParaRPr>
          </a:p>
          <a:p>
            <a:pPr marL="32904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coagulopathy</a:t>
            </a:r>
            <a:endParaRPr b="0" lang="en-US" sz="44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hock/sepsis</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idney/Liver failure</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uma (especially head/spine)</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re burns</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 transplant</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istory of PUD or UGIB</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ep vein thrombosis/ pulmonary embolism prophylaxis (VTE prophylaxi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ess ulcer prophylaxis (SUP)</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rast nephropathy (CIN) prevent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P Official Guidelines</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999 American Society of Health System Pharmacists…SUP recommended in:</a:t>
            </a:r>
            <a:endParaRPr b="0" lang="en-US" sz="28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ICU patients with a coagulopathy or pts intubated &gt; 48 hours</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ts with Hx GIB w/in 1 yr PTA</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ts with two of the following:  Sepsis, ICU stay &gt; 1 week, occult bleeding &gt; 6 days, high dose steroids</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CS &lt;10</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rn patients (&gt;35%BSA)</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der in:  Some trauma pts (ISS &gt;16), Post transplant pts, Liver failure, Spinal cord injury pt</a:t>
            </a:r>
            <a:endParaRPr b="0" lang="en-US" sz="2400" spc="-1" strike="noStrike">
              <a:solidFill>
                <a:srgbClr val="000000"/>
              </a:solidFill>
              <a:latin typeface="Times New Roman"/>
            </a:endParaRPr>
          </a:p>
          <a:p>
            <a:pPr lvl="1" marL="713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P guidelines (continued)</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99 American Society of Health System Pharmacis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SUP is not recommended for adult patients in non-ICU settings”</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P since 1999</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ce then SUP has become much more common in general medicine (non-ICU) patients with little evidence to support such use…wh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advertently continuing SUP after acute reason for its initiation has resolved (extubated and transferred to floor…all meds continu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trapolating ICU data to no-ICU patient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wnside of inappropriate SUP meds</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ing a patient a med that is not indicate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s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rease risk of C-diff related diseas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rease risk of drug-drug interaction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tential increase risk of Pneumonia</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ise in gastric PH may promote growth of bacteria in stomach (GN bacilli in duodenum)</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ies have been conflicting</a:t>
            </a: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0 years since 1999</a:t>
            </a:r>
            <a:br>
              <a:rPr sz="4400"/>
            </a:br>
            <a:r>
              <a:rPr b="0" lang="en-US" sz="4400" spc="-1" strike="noStrike">
                <a:solidFill>
                  <a:srgbClr val="000000"/>
                </a:solidFill>
                <a:latin typeface="Times New Roman"/>
              </a:rPr>
              <a:t>Who should get SUP???</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ly only critically ill ICU patients who ar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ubated &gt; 48 hours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agulopathic</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ider in ICU patient with multiple other risk factors</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ess Ulcer Risk Factors</a:t>
            </a: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Mechanical ventilation </a:t>
            </a:r>
            <a:endParaRPr b="0" lang="en-US" sz="4400" spc="-1" strike="noStrike">
              <a:solidFill>
                <a:srgbClr val="000000"/>
              </a:solidFill>
              <a:latin typeface="Times New Roman"/>
            </a:endParaRPr>
          </a:p>
          <a:p>
            <a:pPr marL="32904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coagulopathy</a:t>
            </a:r>
            <a:endParaRPr b="0" lang="en-US" sz="44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hock/sepsis</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idney/Liver failure</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uma (especially head/spine)</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re burns</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 transplant</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istory of PUD or UGIB</a:t>
            </a:r>
            <a:endParaRPr b="0" lang="en-US" sz="2800" spc="-1" strike="noStrike">
              <a:solidFill>
                <a:srgbClr val="000000"/>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K, so they REALLY qualify for SUP…what do you give them?</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tacids:  Not ideal because you have to give them every 1-2 hour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cralfate:  The most rigorous RTC comparing to ranitidine, showed more GIBs with sucralfate (Crit care medicine 2005 33:760)</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2 Blockers: Efficacy for SUP well documented, generally well tolerated**</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PIs:  Data on efficacy less extensive than for the above, but well tolerated, side effects for short term use are rare, and PO is now generic.</a:t>
            </a: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
            </a:r>
            <a:r>
              <a:rPr b="0" lang="en-US" sz="4400" spc="-1" strike="noStrike">
                <a:solidFill>
                  <a:srgbClr val="000000"/>
                </a:solidFill>
                <a:latin typeface="Times New Roman"/>
              </a:rPr>
              <a:t>expert opinion”</a:t>
            </a: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al PPI for those who can take them (better than H2 blockers for decreasing PH)</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V H2 Blockers in those who cannot eat (“expert” opinion that the “far greater cost of IV PPIs outweighs the nominally greater efficacy that may exis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n’t forget to feed your patient</a:t>
            </a: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tral nutrition may reduce incidence of stress ulcers/GIB</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tective effect of nutrition is NOT due to change in gastric PH…it is due to preventing the loss of energy stores of the gastric epithelium (suggested by the fact that TPN patients have less stress ulc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xt Topic:  Contrast Induced Nephropathy (CIN) Prevention</a:t>
            </a: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ition:  0.5mg/dl or 25% increase in creatinine following contrast administration (within 24 hours, up to 5 days late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lang="en-US" sz="2800" spc="-1" strike="noStrike" baseline="30000">
                <a:solidFill>
                  <a:srgbClr val="000000"/>
                </a:solidFill>
                <a:latin typeface="Times New Roman"/>
              </a:rPr>
              <a:t>rd</a:t>
            </a:r>
            <a:r>
              <a:rPr b="0" lang="en-US" sz="2800" spc="-1" strike="noStrike">
                <a:solidFill>
                  <a:srgbClr val="000000"/>
                </a:solidFill>
                <a:latin typeface="Times New Roman"/>
              </a:rPr>
              <a:t> most common cause of ARF in hospital</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11% incidence of CIN in mild-mod CRI</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gher rates in DM patients, or pt with RF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ly no prevention measures necessary when Cr&lt;1.5 or GFR &gt;50-60…remember, serum Cr may overestimate GFR in older, thiner, patient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enous Thromboembolism</a:t>
            </a:r>
            <a:br>
              <a:rPr sz="4400"/>
            </a:br>
            <a:r>
              <a:rPr b="0" lang="en-US" sz="4400" spc="-1" strike="noStrike">
                <a:solidFill>
                  <a:srgbClr val="000000"/>
                </a:solidFill>
                <a:latin typeface="Times New Roman"/>
              </a:rPr>
              <a:t>(DVT and PE)</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ckground</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sk of VTE 130 times greater among hospitalized pt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of all hospital deaths can be attributed to P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out prophylaxis, medical pt has VTE risk 5-15% </a:t>
            </a:r>
            <a:endParaRPr b="0" lang="en-US" sz="2400" spc="-1" strike="noStrike">
              <a:solidFill>
                <a:srgbClr val="000000"/>
              </a:solidFill>
              <a:latin typeface="Times New Roman"/>
            </a:endParaRPr>
          </a:p>
          <a:p>
            <a:pPr lvl="3" marL="16002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 = most common preventable cause of hospital death</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TE prophylaxis routinely used in surgical patients, but not widely practiced in medical pts </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0% eligible medical pts got prophylaxis in ENDORSE study</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0% in the IMPROVE study </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ound ¾ PE deaths are medical (not surgical) patients</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IN risk factors</a:t>
            </a: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M</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ge &gt;75</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iprocedural volume depletion</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F</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irrhosi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I</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SAID use</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IN Prevention</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they really need contras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you do a u/s, or MRI?</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void high Osmolal agents (1400-1800)</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iso-osmolal” (290) agents rather than “low osmolal” (500-850…still increased osm compared to plasm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VOID VOLUME DEPLETION, NSAIDS, and nephrotoxin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IN Prevention: Meds/IVF prior</a:t>
            </a: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ple conflicting studies..here are just 2:</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JM 2006; 354:4  “additional fluids should be given, although the optimal regimen is uncertain” …  “N-acetylcystine is not recommend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irculation 2007; 115:1211(REMEDIAL trial): Bicarb + NAC is superior to saline + NAC or saline + NAC + ascorbic acid.</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7 CIN Studies:  Sodium Bicarb vs. Sodium Chloride</a:t>
            </a: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ve prospective trials (REMEDIAL was the largest) each concluded that bicarb is superior to NS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concluded there was no differenc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fferences in design, definitions of CIN, and patient populations make direct comparisons difficul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verall bicarb comes out ahead…I gues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IN prevention:  UTD recommendations</a:t>
            </a: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we recommend isotonic IVF prior to and continued for several hours after contrast administration…optimal type of IVF and timing are not well established”</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otonic bicarb (3 amps in 850ml D5W) at 3 ml/kg for one hr prior, then at rate of 1ml/kg for 6 hours after procedure OR NS at 1ml/kg for at least 2, ideally 6-12 hrs pre and 6-12 hrs post</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ND</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C 1200 mg PO BID day before and day of</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IN prevention:  Clinical pearl</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fore ordering NAC and/or IVF/Bicarb, ask yourself:  Is this intervention which is supported by weak evidence (at best) going to DELAY a study…and possibly DELAY patient ca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lusions</a:t>
            </a:r>
            <a:endParaRPr b="0" lang="en-US" sz="44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ess ALL your patients daily for need of DVT prophylaxi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tto for Peptic ulcer disease prophylaxis, BUT ONLY IN YOUR ICU PATIENT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D prophylaxis should almost always be stopped once transferred out of ICU</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or to contrast CT, check a creatinine, and if &gt;1.5, consider risks and benefits of the CT scan.  If really needed, make sure they are hydrated and consider giving them Bicarb+D5W and/or NAC</a:t>
            </a: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TE Prophylaxis in Medical Patients</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is no formal, validated risk assessment model for medical patient, as there is in surgical pati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ttom line:  generally, medical patients who have limited mobility for &gt; 3 days and have </a:t>
            </a:r>
            <a:r>
              <a:rPr b="0" lang="en-US" sz="3200" spc="-1" strike="noStrike" u="sng">
                <a:solidFill>
                  <a:srgbClr val="000000"/>
                </a:solidFill>
                <a:uFillTx/>
                <a:latin typeface="Times New Roman"/>
              </a:rPr>
              <a:t>one RF</a:t>
            </a:r>
            <a:r>
              <a:rPr b="0" lang="en-US" sz="3200" spc="-1" strike="noStrike">
                <a:solidFill>
                  <a:srgbClr val="000000"/>
                </a:solidFill>
                <a:latin typeface="Times New Roman"/>
              </a:rPr>
              <a:t> should get VTE prophylaxis</a:t>
            </a:r>
            <a:endParaRPr b="0" lang="en-US" sz="32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004 ACCP Guidelines for VTE Prophylaxis in Medical Patients</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In acutely ill medical patients who have been admitted to the hospital with CHF or severe respiratory disease, </a:t>
            </a:r>
            <a:r>
              <a:rPr b="0" lang="en-US" sz="3200" spc="-1" strike="noStrike" u="sng">
                <a:solidFill>
                  <a:srgbClr val="000000"/>
                </a:solidFill>
                <a:uFillTx/>
                <a:latin typeface="Times New Roman"/>
              </a:rPr>
              <a:t>OR</a:t>
            </a:r>
            <a:r>
              <a:rPr b="0" lang="en-US" sz="3200" spc="-1" strike="noStrike">
                <a:solidFill>
                  <a:srgbClr val="000000"/>
                </a:solidFill>
                <a:latin typeface="Times New Roman"/>
              </a:rPr>
              <a:t> who are confined to bed and have one or more additional risk factors, we recommend prophylaxis with unfractionated heparin (UFH) or low molecular weight heparin (LMWH…aka enoxaparin/lovenox)”</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004 ACCP Guidelines for VTE Prophylaxis in Medical Patients</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We recommend, on admission to the ICU, all patients be assessed for their risk for VTE.  Accordingly, most patients should receive thromboprophylaxi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isk Factors for VTE</a:t>
            </a:r>
            <a:endParaRPr b="0" lang="en-US" sz="4400" spc="-1" strike="noStrike">
              <a:solidFill>
                <a:srgbClr val="000000"/>
              </a:solidFill>
              <a:latin typeface="Times New Roman"/>
            </a:endParaRPr>
          </a:p>
        </p:txBody>
      </p:sp>
      <p:sp>
        <p:nvSpPr>
          <p:cNvPr id="6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lignancy (&amp; myeloprolif. Disorder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welling cathet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F</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gnanc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CPs/HR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B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alysi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phrotic syndrom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ricose vei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vious VT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esit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mok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story of MI</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story of Afib</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ombiphilias (fact 5 L)</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Best Drug and Dosing for DVT Prophylaxis?</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rt answer:  probably low molecular weight heparin (enoxaparin/lovenox)…but much more expensive than unfractionated hepari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about Unfractionated heparin BID vs. TI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007 Meta-analysis</a:t>
            </a:r>
            <a:br>
              <a:rPr sz="4400"/>
            </a:br>
            <a:r>
              <a:rPr b="0" i="1" lang="en-US" sz="3600" spc="-1" strike="noStrike">
                <a:solidFill>
                  <a:srgbClr val="000000"/>
                </a:solidFill>
                <a:latin typeface="Times New Roman"/>
              </a:rPr>
              <a:t>Wein Et. Al Arch Intern Med 167 (14)</a:t>
            </a:r>
            <a:endParaRPr b="0" lang="en-US" sz="36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6 prospective RCTs including 48,000 p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pdate on a 2000 meta-analysis with fewer p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clus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th UFH and LMWH (enoxaparin/lovenox) reduce DVT &amp; PE in hospitalized patients, but neither affect mortalit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MWH (vs. UFH of any dose or frequency) associated with reduced risk DVT</a:t>
            </a: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14T17:24:53Z</dcterms:created>
  <dc:creator>HCMARTINEZ</dc:creator>
  <dc:description/>
  <dc:language>en-US</dc:language>
  <cp:lastModifiedBy>Health Services Department</cp:lastModifiedBy>
  <dcterms:modified xsi:type="dcterms:W3CDTF">2009-02-13T00:16:17Z</dcterms:modified>
  <cp:revision>17</cp:revision>
  <dc:subject/>
  <dc:title>Prophylaxis in the hospital 2007 update</dc:title>
</cp:coreProperties>
</file>